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823-FBE3-41FB-A7E3-0D06783E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ECF-012F-44DB-BD2D-F4B12C50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FC0-21BA-47B7-B0CC-FFF905E5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763-7470-4DCD-96D6-EA451A1B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F88-3253-4963-AF7F-146E7526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400-A85F-4D93-BA26-03852607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078A-6436-43FA-A65F-A5288654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1DFF-4173-4B35-B541-E3F28AF7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55F-0190-477C-86A9-901E200A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CD3-703C-40BC-82BB-F69FFE09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4F9-E192-43A2-8A04-515CB726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334-DF69-4BAA-9038-77D183D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7EF-0FC1-41E6-AD95-52AD8D075D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9640" y="177336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.2.2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42920" y="1341360"/>
            <a:ext cx="6050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五、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谈谈你的收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981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、复习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1701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函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x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图象与两坐标轴的交点坐标分别是多少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765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、新知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50920" y="1339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已知函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=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2x 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6720" y="191772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把它写成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a(x-h)</a:t>
            </a:r>
            <a:r>
              <a:rPr b="1" lang="zh-CN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k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的形式；并说明它是由怎样的抛物线经过怎样平移得到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68360" y="29257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写出函数图象的对称轴、顶点坐标、开口方向、最值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24000" y="3789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求出图象与坐标轴的交点坐标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-33480" y="4438800"/>
            <a:ext cx="77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画出函数图象的草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1557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5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设图像交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轴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两点，交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轴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点，求△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PB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面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84360" y="2997360"/>
            <a:ext cx="77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根据图象草图，说出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取哪些值时， ①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=0;  ②  y&lt;0;  ③  y&gt;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9640" y="90792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已知函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= 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2x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9079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问题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：二次函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y=ax</a:t>
            </a:r>
            <a:r>
              <a:rPr b="1" lang="zh-CN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+bx+c     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图象如图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所示，则下列说法不正确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5280" y="2637000"/>
            <a:ext cx="489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8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2376720" cy="619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ject 10" descr=""/>
          <p:cNvPicPr/>
          <p:nvPr/>
        </p:nvPicPr>
        <p:blipFill>
          <a:blip r:embed="rId3"/>
          <a:stretch/>
        </p:blipFill>
        <p:spPr>
          <a:xfrm>
            <a:off x="4140360" y="2708280"/>
            <a:ext cx="936360" cy="482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12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10098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ject 14" descr=""/>
          <p:cNvPicPr/>
          <p:nvPr/>
        </p:nvPicPr>
        <p:blipFill>
          <a:blip r:embed="rId5"/>
          <a:stretch/>
        </p:blipFill>
        <p:spPr>
          <a:xfrm>
            <a:off x="3851280" y="3284640"/>
            <a:ext cx="187308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Image00005"/>
          <p:cNvPicPr/>
          <p:nvPr/>
        </p:nvPicPr>
        <p:blipFill>
          <a:blip r:embed="rId6"/>
          <a:stretch/>
        </p:blipFill>
        <p:spPr>
          <a:xfrm>
            <a:off x="6588000" y="2637000"/>
            <a:ext cx="1725840" cy="1995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050920" y="206064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46836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250920" y="4437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符号如何判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250920" y="501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²-4a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符号如何确定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250920" y="5516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+b+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值如何判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ject 22" descr=""/>
          <p:cNvPicPr/>
          <p:nvPr/>
        </p:nvPicPr>
        <p:blipFill>
          <a:blip r:embed="rId7"/>
          <a:stretch/>
        </p:blipFill>
        <p:spPr>
          <a:xfrm>
            <a:off x="411480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9079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、拓展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0920" y="198900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若方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x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+bx+c=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两个根是－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，那么二次函数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=ax</a:t>
            </a:r>
            <a:r>
              <a:rPr b="1" lang="en-US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+bx+c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图象位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轴上方时，自变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取值范围是多少？若位于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轴下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84360" y="126828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如图，抛物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3x+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≠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经过原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求其解析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ject 8" descr=""/>
          <p:cNvPicPr/>
          <p:nvPr/>
        </p:nvPicPr>
        <p:blipFill>
          <a:blip r:embed="rId2"/>
          <a:stretch/>
        </p:blipFill>
        <p:spPr>
          <a:xfrm>
            <a:off x="4859280" y="2762280"/>
            <a:ext cx="25923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5280" y="1125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四、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24000" y="1916280"/>
            <a:ext cx="84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二次函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图象全部位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轴上方，则满足条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 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27640" y="23446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    b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4ac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24000" y="36576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抛物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&gt;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557440" y="414972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1 , 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444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4716360" y="18900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6.2.2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二次函数和一元二次方程的关系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189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教版九年级下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55640" y="981000"/>
            <a:ext cx="7848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二次函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bx+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图象，如图所示，根据图象可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小关系是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84360" y="3860640"/>
            <a:ext cx="489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上题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抛物线的对称轴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判断下列各式是否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a+b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a+2b+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b+c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tretch/>
        </p:blipFill>
        <p:spPr>
          <a:xfrm>
            <a:off x="5940360" y="3645000"/>
            <a:ext cx="2916360" cy="2500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908000" y="198612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05:37:11Z</dcterms:created>
  <dc:creator>微软中国</dc:creator>
  <dc:description/>
  <dc:language>en-US</dc:language>
  <cp:lastModifiedBy>2015zqh</cp:lastModifiedBy>
  <dcterms:modified xsi:type="dcterms:W3CDTF">2017-09-21T08:57:45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